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4D47-FD34-43CF-A4F2-E96440CB47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ilitator to introduce staff and housekeeping (toilets,smoking,fire exits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xplain the purpose of the evening;</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raise awareness of the ‘Adult Literacies’ issue (National &amp; Local context)</a:t>
            </a: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recruit volunteers interested in undertaking training to support adults with limited literacy skil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Henry Mc Leish’s statement was promoting a national push to raise literacy standards across Scotlan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roduce 1997 International study and explain the leve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light comparis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light that although there are many definitions of literacy, this was the one accepted by the Adult Literacy 2000 team (The Government working group looking at ways to improve litera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definition expands the term literacy so that it is not just concerned with reading writing and mathematics but about putting these skills into daily life to enable people to live fully in a rapidly changing and developing environ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t has been estimated that there could be as many as £18 000 people with poor literacy skills living in Falki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rrent lit/num provision takes the form of 1:1 tuition usually in a group setting. However we are working towards providing a more diverse range of adult learning opportun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5E2AE-FA50-450E-9AF5-22D552F7F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C43CA-A863-4F40-AFC2-4EBF0E2FF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68505-02DE-43AF-B515-EE06657DC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7EED7-788B-422E-B5CB-0A2DC40E2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D2892-E0FE-4E64-85E3-BE12FF138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F6F4C-B30A-4478-B6E3-822955AD4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D7F1F-2A9F-4219-BA81-5256F89E9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9207C-6483-4C7E-8197-5F8432428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6B348-7524-4F88-B834-C46228F6B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B3E1E-D6F9-4B68-8C47-131E8F5EF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2B53-7114-43F6-B9E0-E522247F4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F1B71-6BF6-4D61-BCB4-2841CD0A3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818B-D521-4C60-8C02-99B6F90171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520"/>
            <a:ext cx="7772400" cy="21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alkirk Council </a:t>
            </a:r>
            <a:br>
              <a:rPr sz="3600"/>
            </a:br>
            <a:r>
              <a:rPr b="1" lang="en-US" sz="3600" spc="-1" strike="noStrike">
                <a:solidFill>
                  <a:srgbClr val="000000"/>
                </a:solidFill>
                <a:latin typeface="Comic Sans MS"/>
              </a:rPr>
              <a:t>Adult Learning Team</a:t>
            </a:r>
            <a:br>
              <a:rPr sz="3600"/>
            </a:br>
            <a:r>
              <a:rPr b="1" lang="en-US" sz="3600" spc="-1" strike="noStrike">
                <a:solidFill>
                  <a:srgbClr val="000000"/>
                </a:solidFill>
                <a:latin typeface="Comic Sans MS"/>
              </a:rPr>
              <a:t> Literacy &amp; Numeracy Provision</a:t>
            </a: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1371600" y="4114440"/>
            <a:ext cx="6400800" cy="20574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838080" y="2590920"/>
            <a:ext cx="7391520" cy="388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olunteer Recruitment</a:t>
            </a:r>
            <a:endParaRPr b="0" lang="en-US" sz="36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ry Scrimgeour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utor Coordinator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Janice Swan &amp; James Tat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velopment Workers/Tutor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dult Literacies Team</a:t>
            </a:r>
            <a:endParaRPr b="0" lang="en-US" sz="2800" spc="-1" strike="noStrike">
              <a:solidFill>
                <a:srgbClr val="000000"/>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njoy this sessi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4 ‘workshops’ for you to sampl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Video – featuring student ‘voic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Good/Bad learning experienc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Situated literaci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Case study</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at’s next?</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 Application Form/Introduction Pack/Case Studies &amp; Return in SAE</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views to take place: </a:t>
            </a: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week beginning 1</a:t>
            </a:r>
            <a:r>
              <a:rPr b="1" lang="en-US" sz="2000" spc="-1" strike="noStrike" baseline="30000">
                <a:solidFill>
                  <a:srgbClr val="000000"/>
                </a:solidFill>
                <a:latin typeface="Comic Sans MS"/>
              </a:rPr>
              <a:t>st</a:t>
            </a:r>
            <a:r>
              <a:rPr b="1" lang="en-US" sz="2000" spc="-1" strike="noStrike">
                <a:solidFill>
                  <a:srgbClr val="000000"/>
                </a:solidFill>
                <a:latin typeface="Comic Sans MS"/>
              </a:rPr>
              <a:t> September 2003 </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uction Session: TBA</a:t>
            </a:r>
            <a:endParaRPr b="0" lang="en-US" sz="1800" spc="-1" strike="noStrike">
              <a:solidFill>
                <a:srgbClr val="000000"/>
              </a:solidFill>
              <a:latin typeface="Times New Roman"/>
            </a:endParaRPr>
          </a:p>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aining Sessions:</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08520" indent="-3085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will be one weekend session to start off with.  This will aid team building and cut the overall length of the course.</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bulk of the training sessions will be arranged for Tuesdays and/or Wednesdays once we know the make up of the group and when suits them best.</a:t>
            </a:r>
            <a:endParaRPr b="0" lang="en-US" sz="20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dult Literacies Conference</a:t>
            </a:r>
            <a:br>
              <a:rPr sz="3600"/>
            </a:br>
            <a:r>
              <a:rPr b="1" lang="en-US" sz="3600" spc="-1" strike="noStrike">
                <a:solidFill>
                  <a:srgbClr val="000000"/>
                </a:solidFill>
                <a:latin typeface="Comic Sans MS"/>
              </a:rPr>
              <a:t> 8</a:t>
            </a:r>
            <a:r>
              <a:rPr b="1" lang="en-US" sz="3600" spc="-1" strike="noStrike" baseline="30000">
                <a:solidFill>
                  <a:srgbClr val="000000"/>
                </a:solidFill>
                <a:latin typeface="Comic Sans MS"/>
              </a:rPr>
              <a:t>th</a:t>
            </a:r>
            <a:r>
              <a:rPr b="1" lang="en-US" sz="3600" spc="-1" strike="noStrike">
                <a:solidFill>
                  <a:srgbClr val="000000"/>
                </a:solidFill>
                <a:latin typeface="Comic Sans MS"/>
              </a:rPr>
              <a:t> September 2000</a:t>
            </a:r>
            <a:endParaRPr b="0" lang="en-US" sz="3600" spc="-1" strike="noStrike">
              <a:solidFill>
                <a:srgbClr val="000000"/>
              </a:solidFill>
              <a:latin typeface="Times New Roman"/>
            </a:endParaRPr>
          </a:p>
        </p:txBody>
      </p:sp>
      <p:sp>
        <p:nvSpPr>
          <p:cNvPr id="52" name="PlaceHolder 2"/>
          <p:cNvSpPr>
            <a:spLocks noGrp="1"/>
          </p:cNvSpPr>
          <p:nvPr>
            <p:ph/>
          </p:nvPr>
        </p:nvSpPr>
        <p:spPr>
          <a:xfrm>
            <a:off x="380880" y="2209680"/>
            <a:ext cx="838224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enry McLeish said:</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	</a:t>
            </a:r>
            <a:r>
              <a:rPr b="0" lang="en-GB" sz="2800" spc="-1" strike="noStrike">
                <a:solidFill>
                  <a:srgbClr val="000000"/>
                </a:solidFill>
                <a:latin typeface="Comic Sans MS"/>
              </a:rPr>
              <a:t>I am determined that we make a positive difference to the quality of life of all those people in Scotland who, because of problems with literacy and numeracy, are held back from playing a full part in daily activities so many of us take for granted.  Fighting this battle is an essential part of our commitment to tackling social exclusion.”</a:t>
            </a:r>
            <a:endParaRPr b="0" lang="en-US" sz="2800" spc="-1" strike="noStrike">
              <a:solidFill>
                <a:srgbClr val="000000"/>
              </a:solidFill>
              <a:latin typeface="Times New Roman"/>
            </a:endParaRPr>
          </a:p>
        </p:txBody>
      </p:sp>
      <p:pic>
        <p:nvPicPr>
          <p:cNvPr id="53" name="bd05112_" descr=""/>
          <p:cNvPicPr/>
          <p:nvPr/>
        </p:nvPicPr>
        <p:blipFill>
          <a:blip r:embed="rId1"/>
          <a:stretch/>
        </p:blipFill>
        <p:spPr>
          <a:xfrm>
            <a:off x="7620120" y="1295280"/>
            <a:ext cx="1191960" cy="1498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nternational Adult Literacy Study 1997</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ve levels of competence were identifie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vel 1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Very poor skill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vel 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Weak Skill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vel 3 </a:t>
            </a:r>
            <a:r>
              <a:rPr b="0" lang="en-US" sz="2400" spc="-1" strike="noStrike">
                <a:solidFill>
                  <a:srgbClr val="000000"/>
                </a:solidFill>
                <a:latin typeface="Comic Sans MS"/>
              </a:rPr>
              <a:t>	</a:t>
            </a:r>
            <a:r>
              <a:rPr b="0" lang="en-US" sz="2400" spc="-1" strike="noStrike">
                <a:solidFill>
                  <a:srgbClr val="000000"/>
                </a:solidFill>
                <a:latin typeface="Comic Sans MS"/>
              </a:rPr>
              <a:t>Able to cope with literacy &amp;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umeracy demands of everyday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ife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vel 3 is the desired minimum</a:t>
            </a:r>
            <a:endParaRPr b="0" lang="en-US" sz="24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Scottish Result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ills Level 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3%</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ills Level 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31%</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nternational Adult Literacy Study 1997</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arison at Level 1</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untry</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1" lang="en-US" sz="2400" spc="-1" strike="noStrike">
                <a:solidFill>
                  <a:srgbClr val="000000"/>
                </a:solidFill>
                <a:latin typeface="Comic Sans MS"/>
              </a:rPr>
              <a:t>Percentage at level 1</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ede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7%</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rmany</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0%</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A</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2%</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eat Britai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3%</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otland</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3% </a:t>
            </a:r>
            <a:endParaRPr b="0" lang="en-US" sz="2400" spc="-1" strike="noStrike">
              <a:solidFill>
                <a:srgbClr val="000000"/>
              </a:solidFill>
              <a:latin typeface="Times New Roman"/>
            </a:endParaRPr>
          </a:p>
        </p:txBody>
      </p:sp>
      <p:pic>
        <p:nvPicPr>
          <p:cNvPr id="58" name="bd06193_" descr=""/>
          <p:cNvPicPr/>
          <p:nvPr/>
        </p:nvPicPr>
        <p:blipFill>
          <a:blip r:embed="rId1"/>
          <a:stretch/>
        </p:blipFill>
        <p:spPr>
          <a:xfrm>
            <a:off x="6781680" y="4114800"/>
            <a:ext cx="1373400" cy="1760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228240"/>
            <a:ext cx="7772400" cy="624852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Firm</a:t>
            </a:r>
            <a:endParaRPr b="0" lang="en-US" sz="3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ppearing at the</a:t>
            </a:r>
            <a:endParaRPr b="0" lang="en-US" sz="3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Birmingham National</a:t>
            </a:r>
            <a:endParaRPr b="0" lang="en-US" sz="3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xhibition Centre</a:t>
            </a:r>
            <a:endParaRPr b="0" lang="en-US" sz="3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n</a:t>
            </a:r>
            <a:endParaRPr b="0" lang="en-US" sz="3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19 November 1999</a:t>
            </a:r>
            <a:endParaRPr b="0" lang="en-US" sz="3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a:t>
            </a:r>
            <a:endParaRPr b="0" lang="en-US" sz="3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7.30pm</a:t>
            </a:r>
            <a:endParaRPr b="0" lang="en-US" sz="3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ickets</a:t>
            </a:r>
            <a:endParaRPr b="0" lang="en-US" sz="3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8.50, £10.00, £15.00</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cale of the proble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tionally - up to 800,000 (23%) adults appear to have low level literacy &amp; numeracy skill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00,000 assess their own skills as poor or modera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fecting possibly 18-20,000 adults in the Falkirk area</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s being done?</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 aim to provide a world class adult literacy &amp; numeracy prov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nt major national initiative to address poor literacy/numeracy level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ottish Executive allocated £18.5 million to local authorities over 3 year period (to 2004, recently extended to 200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opting a particular approach – “lifelong learning”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o be fully literate is to be able to read, write and use numeracy, to handle information, to express ideas and opinions, to make decisions and solve problems, to learn as private individuals, family members, workers, citizens and lifelong learners in a rapidly changing world.”</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5257800"/>
            <a:ext cx="7772400" cy="838080"/>
          </a:xfrm>
          <a:prstGeom prst="rect">
            <a:avLst/>
          </a:prstGeom>
          <a:noFill/>
          <a:ln w="0">
            <a:noFill/>
          </a:ln>
        </p:spPr>
        <p:txBody>
          <a:bodyPr lIns="90000" rIns="90000" tIns="46800" bIns="46800" anchor="t">
            <a:normAutofit fontScale="87000"/>
          </a:bodyPr>
          <a:p>
            <a:pPr marL="298440" indent="-298440" algn="ctr">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ult Literacy 2000 Team</a:t>
            </a:r>
            <a:endParaRPr b="0" lang="en-US" sz="2800" spc="-1" strike="noStrike">
              <a:solidFill>
                <a:srgbClr val="000000"/>
              </a:solidFill>
              <a:latin typeface="Times New Roman"/>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66" name="pe02288_" descr=""/>
          <p:cNvPicPr/>
          <p:nvPr/>
        </p:nvPicPr>
        <p:blipFill>
          <a:blip r:embed="rId1"/>
          <a:stretch/>
        </p:blipFill>
        <p:spPr>
          <a:xfrm>
            <a:off x="7086600" y="3733920"/>
            <a:ext cx="1638360" cy="192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Falkirk Pictur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mploying new Staff to provide additional programmes – ongoing!!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eveloping additional literacy &amp; numeracy opportunit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Core Provision</a:t>
            </a:r>
            <a:r>
              <a:rPr b="0" lang="en-GB" sz="2800" spc="-1" strike="noStrike">
                <a:solidFill>
                  <a:srgbClr val="000000"/>
                </a:solidFill>
                <a:latin typeface="Comic Sans MS"/>
              </a:rPr>
              <a:t>: different learning options to accommodate diversity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Supported Stud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Short Courses</a:t>
            </a:r>
            <a:endParaRPr b="0" lang="en-US" sz="2800" spc="-1" strike="noStrike">
              <a:solidFill>
                <a:srgbClr val="000000"/>
              </a:solidFill>
              <a:latin typeface="Times New Roman"/>
            </a:endParaRPr>
          </a:p>
        </p:txBody>
      </p:sp>
      <p:pic>
        <p:nvPicPr>
          <p:cNvPr id="69" name="so01038_" descr=""/>
          <p:cNvPicPr/>
          <p:nvPr/>
        </p:nvPicPr>
        <p:blipFill>
          <a:blip r:embed="rId1"/>
          <a:stretch/>
        </p:blipFill>
        <p:spPr>
          <a:xfrm>
            <a:off x="7238880" y="228600"/>
            <a:ext cx="1621080" cy="1630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1T13:23:30Z</dcterms:created>
  <dc:creator>Braes Com Ed </dc:creator>
  <dc:description/>
  <dc:language>en-US</dc:language>
  <cp:lastModifiedBy>fc12808</cp:lastModifiedBy>
  <dcterms:modified xsi:type="dcterms:W3CDTF">2004-06-10T08:45:34Z</dcterms:modified>
  <cp:revision>28</cp:revision>
  <dc:subject/>
  <dc:title>Adult Literacies</dc:title>
</cp:coreProperties>
</file>